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45D-6C7F-4579-B4B5-4B3E0541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E98-E5F8-4414-A450-06F29F07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2F3-217E-46BE-81AB-8124E5F8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F09-7E53-4511-AFEC-038823C8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50FB-E089-4A46-96C2-38CCF1F2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B004-19BE-42D3-AC3C-EB97132B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04D4-3F37-427E-A1C8-65A1BBEF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85E2-0620-478B-8778-1A7588EB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576B-A8A8-4479-B2C8-4A629486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42AB-D541-4DE2-884B-6C25C5DF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78BC-EF86-496F-8900-FD7AA607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446-F1D4-4816-A0A8-D515170E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95C9-66AC-408D-A7D7-6BF5D2E1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9BA6-7664-46CA-9F54-AD5DF731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C81A-1ABF-46A9-AB20-E48E4148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0CED-D3A7-4B15-8F2C-C0684F35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315B-68BB-40EE-85F4-157E96DD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CAD-7B45-4014-A449-3309FFFF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62F-C6D0-4632-81DD-783FB1D9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296-C1EC-46AC-BFFA-B2C573AB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977-C841-4256-9568-7036435D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4F2-50DE-4F5F-BFE2-DE8239D8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34B-E357-452C-9EA1-CF2BA53B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A43-78E5-4C3D-B2CE-FBCC7478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32707D-3E6F-4F16-9FC9-97AB6CB47A1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EFF23C-D207-47C2-A886-7FD3E5BF860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1500" spc="-1" strike="noStrike">
                <a:solidFill>
                  <a:srgbClr val="ffff00"/>
                </a:solidFill>
                <a:latin typeface="Calibri"/>
              </a:rPr>
              <a:t>British Newspapers</a:t>
            </a:r>
            <a:endParaRPr b="0" lang="ru-RU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928880" y="2357280"/>
            <a:ext cx="52858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Заголовок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me Facts About British 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457200" y="1268280"/>
            <a:ext cx="82292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iest known newspaper of British orig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xford Gazet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16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newspapers are divided into three sectors: Quality Press, Middle-Market Press, Red-Top Tabloids (Popular P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eat Britain there are 3 formats of newspapers: Broadsheet, Berliner, Comp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newspapers divided into Daily and Su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1"/>
          <p:cNvSpPr/>
          <p:nvPr/>
        </p:nvSpPr>
        <p:spPr>
          <a:xfrm>
            <a:off x="2123640" y="0"/>
            <a:ext cx="4536000" cy="194400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chemeClr val="lt1"/>
                </a:solidFill>
                <a:latin typeface="Calibri"/>
              </a:rPr>
              <a:t>Quality P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Прямая со стрелкой 2"/>
          <p:cNvCxnSpPr/>
          <p:nvPr/>
        </p:nvCxnSpPr>
        <p:spPr>
          <a:xfrm flipH="1">
            <a:off x="900000" y="1341360"/>
            <a:ext cx="1368720" cy="71928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87" name="Овал 3"/>
          <p:cNvSpPr/>
          <p:nvPr/>
        </p:nvSpPr>
        <p:spPr>
          <a:xfrm>
            <a:off x="0" y="2061000"/>
            <a:ext cx="3275640" cy="1151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Broad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4"/>
          <p:cNvCxnSpPr/>
          <p:nvPr/>
        </p:nvCxnSpPr>
        <p:spPr>
          <a:xfrm>
            <a:off x="4284360" y="1989000"/>
            <a:ext cx="360" cy="2376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89" name="Овал 5"/>
          <p:cNvSpPr/>
          <p:nvPr/>
        </p:nvSpPr>
        <p:spPr>
          <a:xfrm>
            <a:off x="2555640" y="4437000"/>
            <a:ext cx="3384000" cy="1007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Berl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6"/>
          <p:cNvCxnSpPr/>
          <p:nvPr/>
        </p:nvCxnSpPr>
        <p:spPr>
          <a:xfrm>
            <a:off x="6372000" y="1484280"/>
            <a:ext cx="1224360" cy="72108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1" name="Овал 7"/>
          <p:cNvSpPr/>
          <p:nvPr/>
        </p:nvSpPr>
        <p:spPr>
          <a:xfrm>
            <a:off x="6119640" y="2349000"/>
            <a:ext cx="3024000" cy="1007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Co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0" y="3500280"/>
            <a:ext cx="3131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Tele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da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2771640" y="5805360"/>
            <a:ext cx="2952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uar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b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6407280" y="3573360"/>
            <a:ext cx="2736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кругленный прямоугольник 1"/>
          <p:cNvSpPr/>
          <p:nvPr/>
        </p:nvSpPr>
        <p:spPr>
          <a:xfrm>
            <a:off x="2699640" y="260640"/>
            <a:ext cx="3960000" cy="93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Middle-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Соединительная линия уступом 2"/>
          <p:cNvCxnSpPr/>
          <p:nvPr/>
        </p:nvCxnSpPr>
        <p:spPr>
          <a:xfrm flipV="1" rot="10800000">
            <a:off x="1834920" y="1196640"/>
            <a:ext cx="1153080" cy="1511640"/>
          </a:xfrm>
          <a:prstGeom prst="bentConnector2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7" name="Соединительная линия уступом 3"/>
          <p:cNvCxnSpPr/>
          <p:nvPr/>
        </p:nvCxnSpPr>
        <p:spPr>
          <a:xfrm>
            <a:off x="6372000" y="1196640"/>
            <a:ext cx="1224360" cy="1511640"/>
          </a:xfrm>
          <a:prstGeom prst="bentConnector2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8" name="Скругленный прямоугольник 4"/>
          <p:cNvSpPr/>
          <p:nvPr/>
        </p:nvSpPr>
        <p:spPr>
          <a:xfrm>
            <a:off x="395640" y="2853000"/>
            <a:ext cx="3168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724000" y="2925000"/>
            <a:ext cx="3168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68360" y="4149720"/>
            <a:ext cx="28792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5724360" y="4221000"/>
            <a:ext cx="30952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day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il on 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most famous British newspapers 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2" spcCol="0"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1" action="ppaction://hlinksldjump"/>
              </a:rPr>
              <a:t>The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2" action="ppaction://hlinksldjump"/>
              </a:rPr>
              <a:t>The Indepen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3" action="ppaction://hlinksldjump"/>
              </a:rPr>
              <a:t>The Guar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4" action="ppaction://hlinksldjump"/>
              </a:rPr>
              <a:t>The Daily M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5" action="ppaction://hlinksldjump"/>
              </a:rPr>
              <a:t>The S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6" action="ppaction://hlinksldjump"/>
              </a:rPr>
              <a:t>The Daily Exp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7" action="ppaction://hlinksldjump"/>
              </a:rPr>
              <a:t>The Ob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8" action="ppaction://hlinksldjump"/>
              </a:rPr>
              <a:t>The Sunday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123</Words>
  <Paragraphs>3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22:16:52Z</dcterms:created>
  <dc:creator>comp001</dc:creator>
  <dc:description/>
  <dc:language>en-US</dc:language>
  <cp:lastModifiedBy>comp001</cp:lastModifiedBy>
  <dcterms:modified xsi:type="dcterms:W3CDTF">2013-05-26T22:28:40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